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9D0-8981-433F-AAC7-5310A2A8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379-2375-47F1-94F9-527D7DFA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3386-6064-4D81-8B98-475FE58F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70C3-62A5-4694-85F0-9E3D8756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2E1-3B0E-466D-B76C-7760019A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BCEE-9F7F-4BB3-8CE2-A9FD0FF8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2BE1-4EB7-43BE-A880-04E9C549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11E7-CD8D-4946-B794-8965CDD9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A7EF-027E-4840-B005-ECD8A8E0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0BB-C1C7-4639-9C22-0B9967FD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6CE-4982-4388-9F34-16E75BE2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500-C985-48E4-BBD2-289AD95D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8C87-5F19-4BBA-A024-D12F545F0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42920" y="907920"/>
            <a:ext cx="59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6159600"/>
            <a:ext cx="49514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l viaje de Ulis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dwardian Script ITC"/>
              </a:rPr>
              <a:t>Las siren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z melodi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 bel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2468520" cy="3578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79640" y="4149720"/>
            <a:ext cx="302904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dwardian Script ITC"/>
              </a:rPr>
              <a:t>Escila y Caribd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890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ises anima a los demás a seguir rem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51280" y="2349360"/>
            <a:ext cx="47624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dwardian Script ITC"/>
              </a:rPr>
              <a:t>Las vacas sagrad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44280"/>
            <a:ext cx="36831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hibido comer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saltan esa prohib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564000" y="2133720"/>
            <a:ext cx="50036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dwardian Script ITC"/>
              </a:rPr>
              <a:t>Calips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970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frece a Ulises la in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ntó que Ulises olvidara su vida anterior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27640" y="1700280"/>
            <a:ext cx="4518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Edwardian Script ITC"/>
              </a:rPr>
              <a:t>Isla de los feac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296244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ato de sus aven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yuda del rey Alcí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08360" y="2421000"/>
            <a:ext cx="5121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Edwardian Script ITC"/>
              </a:rPr>
              <a:t>Ita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3538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reso de Ul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ueba de Pené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47466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dwardian Script ITC"/>
              </a:rPr>
              <a:t>Troy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to de part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360" y="2205000"/>
            <a:ext cx="475164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Edwardian Script ITC"/>
              </a:rPr>
              <a:t>Lucha contra los</a:t>
            </a:r>
            <a:r>
              <a:rPr b="0" lang="es-ES" sz="60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0" lang="es-ES" sz="6000" spc="-1" strike="noStrike">
                <a:solidFill>
                  <a:srgbClr val="000000"/>
                </a:solidFill>
                <a:latin typeface="Edwardian Script ITC"/>
              </a:rPr>
              <a:t>cico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es monstru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as per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59864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Edwardian Script ITC"/>
              </a:rPr>
              <a:t>Lotofag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r del l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y dul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dida de la cord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56000" y="2060640"/>
            <a:ext cx="441648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dwardian Script ITC"/>
              </a:rPr>
              <a:t>Cíclop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332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gantes muy fer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solo 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ie es la clave para librarse de el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30510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Edwardian Script ITC"/>
              </a:rPr>
              <a:t>Eó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683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os de los v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re de los v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64000" y="2060640"/>
            <a:ext cx="48895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dwardian Script ITC"/>
              </a:rPr>
              <a:t>Lestrigo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303516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gantes antropófa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635280" y="1720800"/>
            <a:ext cx="49690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dwardian Script ITC"/>
              </a:rPr>
              <a:t>La</a:t>
            </a:r>
            <a:r>
              <a:rPr b="0" lang="en-US" sz="44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Edwardian Script ITC"/>
              </a:rPr>
              <a:t>maga Cir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353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convierte en cer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ises puede con su ma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54824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3394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enso a los infie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vino Tires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356000" y="206064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1:41:07Z</dcterms:created>
  <dc:creator>CASA</dc:creator>
  <dc:description/>
  <dc:language>en-US</dc:language>
  <cp:lastModifiedBy>CASA</cp:lastModifiedBy>
  <dcterms:modified xsi:type="dcterms:W3CDTF">2010-11-01T12:22:57Z</dcterms:modified>
  <cp:revision>3</cp:revision>
  <dc:subject/>
  <dc:title>Diapositiva 1</dc:title>
</cp:coreProperties>
</file>